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B935-F98B-455B-A22F-5C857AA8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77EF-D960-44F1-8354-5B1F4EAF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4CAD-CA84-4028-9C92-E846FBB9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FF0B-29FB-4BC6-BF58-21482E29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E27EB-BB9E-4235-91A5-E4E12C26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66ECA-E852-4577-8FAC-1770206A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AB313-7A65-426E-AA6B-FA3B3838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FE52A-C787-43A2-BF35-926F29CC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65A6B-E1A0-4C7E-8C86-BE893188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87401-1FEC-4222-9988-EFBEC06E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A3E96-ECEB-48CC-8247-50CA4764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96CB-0938-4FC6-A1B7-4F7B6784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D65A4-EFEF-42CC-8312-00392A34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7B840-60C5-4B7E-9A52-0DF52E59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DFBA6-7F39-40FD-B6D1-1151A3B5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78ABF-4EEA-4F1A-88D4-DC2CC77A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83A90-DA2E-411E-A02F-8E5EE354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DF95-7743-4D32-993C-B1B49C2F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14CD-A5A9-4A48-98AC-618F86D6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332D-55E2-43DC-83BD-BC712FA0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3AB8-7E1D-48DB-9174-187FF12F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1992-2E9A-4409-9CF8-B15D8896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AE9A-C876-48A9-927E-FCE70FE3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D289-53CE-42F0-84C8-ED10A756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A0D0-F7CD-4496-A779-ADDE83F9548E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9D47-4507-4391-B5F4-5713C73E86F0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NTE CASTEL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IÃO URB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1280" y="2055240"/>
            <a:ext cx="813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inda que eu falass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língua dos homen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 falasse a língua dos anjos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m amor eu nada seri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00000" y="1902600"/>
            <a:ext cx="727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ffff"/>
                </a:solidFill>
                <a:latin typeface="Times New Roman"/>
              </a:rPr>
              <a:t>Ainda que eu falasse</a:t>
            </a:r>
            <a:br>
              <a:rPr sz="4000"/>
            </a:br>
            <a:r>
              <a:rPr b="0" lang="pt-PT" sz="4000" spc="-1" strike="noStrike">
                <a:solidFill>
                  <a:srgbClr val="ffffff"/>
                </a:solidFill>
                <a:latin typeface="Times New Roman"/>
              </a:rPr>
              <a:t>A língua dos homens</a:t>
            </a:r>
            <a:br>
              <a:rPr sz="4000"/>
            </a:br>
            <a:r>
              <a:rPr b="0" lang="pt-PT" sz="4000" spc="-1" strike="noStrike">
                <a:solidFill>
                  <a:srgbClr val="ffffff"/>
                </a:solidFill>
                <a:latin typeface="Times New Roman"/>
              </a:rPr>
              <a:t>E falasse a língua dos anjos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ffff"/>
                </a:solidFill>
                <a:latin typeface="Times New Roman"/>
              </a:rPr>
              <a:t>Sem amor eu nada seri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16000" y="1988280"/>
            <a:ext cx="7040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É só o amor! É só o amo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 conhece o que é verdade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 amor é bom, não quer o mal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ão sente inveja ou se envaide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14880" y="1988280"/>
            <a:ext cx="7783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 amor é o fogo que arde sem se ver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É ferida que dói e não se sente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É um contentamento descontente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É dor que desatina sem do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71640" y="2133000"/>
            <a:ext cx="727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inda que eu falass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língua dos homen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 falasse a língua dos anjo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m amor eu nada seri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2160" y="1915560"/>
            <a:ext cx="8067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É um não querer mais que bem querer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É solitário andar por entre a gente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É um não contentar-se de contente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É cuidar que se ganha em se perd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1843920"/>
            <a:ext cx="8437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É um estar-se preso por vontade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É servir a quem vence, o vencedor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É um ter com quem nos mata a lealdade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ão contrário a si é o mesmo amo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11280" y="2018520"/>
            <a:ext cx="777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stou acordado e todos dormem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dos dormem. Todos dormem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gora vejo em parte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s então veremos face a fa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16000" y="2451960"/>
            <a:ext cx="62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É só o amor! É só o amo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 conhece o que é verdad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23:24:41Z</dcterms:created>
  <dc:creator>claudemir</dc:creator>
  <dc:description/>
  <dc:language>en-US</dc:language>
  <cp:lastModifiedBy>administradorr</cp:lastModifiedBy>
  <dcterms:modified xsi:type="dcterms:W3CDTF">2010-11-30T18:31:05Z</dcterms:modified>
  <cp:revision>2</cp:revision>
  <dc:subject/>
  <dc:title>MONTE CASTELO</dc:title>
</cp:coreProperties>
</file>